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png" ContentType="image/png"/>
  <Override PartName="/ppt/media/image8.png" ContentType="image/png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 type="dt" idx="3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260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 type="ftr" idx="3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 type="sldNum" idx="3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5DA98-F134-4C84-980E-C8E1C3AD3651}" type="slidenum">
              <a:rPr b="0" lang="zh-TW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53123-CA4F-4368-86D4-9E00249FAF6E}" type="slidenum">
              <a:rPr b="1" lang="zh-TW" sz="1200" spc="-1" strike="noStrike">
                <a:solidFill>
                  <a:srgbClr val="ffffff"/>
                </a:solidFill>
                <a:latin typeface="Verdana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8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BD512-6A2C-43A5-B65C-BF5CBF600AA8}" type="slidenum">
              <a:rPr b="1" lang="zh-TW" sz="1200" spc="-1" strike="noStrike">
                <a:solidFill>
                  <a:srgbClr val="ffffff"/>
                </a:solidFill>
                <a:latin typeface="Verdana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投影片編號版面配置區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E8D78-77BF-429D-A60A-3317C85A7025}" type="slidenum">
              <a:rPr b="1" lang="zh-TW" sz="1200" spc="-1" strike="noStrike">
                <a:solidFill>
                  <a:srgbClr val="ffffff"/>
                </a:solidFill>
                <a:latin typeface="Verdana"/>
                <a:ea typeface="新細明體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D30E-7006-4D5C-BC79-B5E6826CEC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C3E-6753-4608-934B-B9A69E51D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AB6BD7-0897-48EC-83A5-196BFF0AA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605F4CF-D487-4273-A1ED-72A39716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9C7330-85CF-41FA-AD7E-0779171AE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55741C-31FC-4E73-A537-68C02298E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BD1B25-498A-4C31-B9FA-0C5EBB04B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55F300-C1FC-4130-B57F-9407E979D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1C9BEC-66F2-4040-89C2-A5054589F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4E71A3-AED3-479D-9F88-E6828C4E5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1FE563A-651E-4E94-A161-F9C83CD33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5C2C44-8E21-499C-8113-8EFE90F98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E2F2-1906-4D73-B99C-426EFB532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BB657F-9BE5-48C7-9F7B-75C58B8AE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F2FC4C-8AB9-41D9-BDA1-A67C389F4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1DB9DA-838B-499B-87A7-D18F84FA1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D9FE33-63DE-400B-9EB8-F6762F6CAE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69B264-FD81-4F26-BDFD-2B5258837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32A32B-CF5F-4BCA-8EAC-CB177EED6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94E062-FBC8-4332-A917-F81740F89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3F7C9C-A3E1-413C-BF8A-E90820C87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6E4A39-3077-4483-8170-8CC799CE9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98EE15B-FD5C-42BF-A0B4-8D1AA329C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93A-5282-4A80-9216-22DF0C10F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7E4852-671D-4D59-A780-1184B7767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896908-09A9-4171-91A4-2EDA4D03F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0A915D-C5E4-49E3-BB01-021CCE327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E1206F-1D36-4F2A-AD07-02E1E6DE6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AB3FA0-E372-49A4-A497-5B47F2E75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D6C25-E11F-4609-9FF1-6923154CA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8E6211-2895-409F-8738-44905C537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A3B0A7E-D21A-4637-A811-846145699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4BBBE3-6ADC-4C8C-B0C8-DBE184C60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59639F-189C-4732-9653-305D8BDAB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81DCB-CBCA-4843-A8D0-BBA3AC36F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EA06BE-5452-434A-9A48-549C55BB1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9AD75-A4D0-4923-B5D5-A955ECA850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2C158C-9C12-4077-B0DB-4D35FB3DA7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62A2F-5F11-436F-94FD-52CD07FCE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8368A-272E-46A1-9975-D3EC4E9FF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69EF6-FEF8-4FD2-9893-F069279E0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22510-E1F0-41DE-B2E8-E7FFCA676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06826-B4A5-450E-A8DF-681AF7F77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74DA3-F02C-42E7-9AFC-AEB4D235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7FB-A2CB-4068-9887-7F41D3CA6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32EE5-6C9D-429E-BB1C-BF0AB52FB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7B233-23B6-4E51-870C-C911E529A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6074B-BD08-4FCD-9AA9-CBCFBEB56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1E75A-DA67-4588-8D1F-8F90675A5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1CC03-0D6A-4534-A70B-67166CDB5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2ADFE1-BD73-48E7-8E31-D561D27DAF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BBC7E1-F5BD-4B52-B2B6-38C85698D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67CD1B-8DEB-4428-B199-DA25E2ED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AB83DE-2A73-413C-8CBB-3C2D514FC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E1D50C-2169-40E4-8BB3-574231D1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9B80-209F-43FC-9A48-1E75A9F91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DC35AD-D2A9-406C-BB6A-041CC08C9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7371BC-F998-4956-8FF2-3987D5147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D0C467-8032-41F9-ADB1-3277E4950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8D19EB-5AAD-4877-AD27-C3CE678EE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0D15C4-75DD-4173-B46F-1EA839B5C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4975F3-4BC9-41F0-A9F8-F39F1B8FDC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46078E-FB84-4832-B736-EAEF69C33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F190AD-E66F-4571-9730-AC9BBCDA6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02FA3C-B54E-4719-9C73-AA28EEBF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D302E2-5870-48AC-A647-6ADABDD3A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24F2D-6284-442D-A0EC-9D5A4C6BE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23A007-66CF-4738-9258-92D60BA4C3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F84E6-21DE-407D-B5A3-147B6D64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46A3AF-D33F-4DE7-89F4-EA3F1CDCF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1E84FC-FCF6-40FD-B092-B6999BE1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411E05-6F13-4BDE-9F6C-F6F8EBE96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EACE66-1963-4548-A2C6-09C237491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E89122-9112-4CD9-BD7F-A376490F7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65A34-10D8-4609-BAF6-E737403CA7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CEEA78-4C14-4821-A856-4C54AFAFA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0B6A0C-2589-4460-B6E5-A9B491A58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AC9C2-E2BD-4E97-9155-2928D2408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D7121F-F872-4A89-86B3-A3774BF4D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960CA1-52CF-423E-A656-9B697471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A376A0-33C1-440B-9D02-2FF6E01DA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058C3CB-2A11-4412-B8B3-AEAAC6EAF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CE274E-2140-4529-9C01-9EEDCC921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1E9E009-0877-4E86-A075-91F450D41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E7168EC-930D-445A-968A-4B6066EE3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26554-0B2A-4183-A815-4353543EE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E54CD5-3EE0-4AEB-BB59-4B9A318D3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1DEBDC-9BFC-402E-B5B2-70EC46A2C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1519-CF2D-499D-88E2-407597CCD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0E83A9-5004-4368-B033-13FF4EF68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226D99-CCF1-4300-B1AF-DA2A90A8B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456C15-63A1-4F3F-A60B-9A9CD400A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F30C25-C07D-443F-B866-C8D73AF8A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A7C913-7570-42AE-9DDE-A5D8D3022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B313F80-A628-4634-A1AA-8F29B174B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153679-B62C-4636-B24D-EF394EC69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90395-D7AE-420E-8D54-6630CF92A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9C0D7F-0E30-4D86-AF1C-B5064B9EF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1883C8-CA36-4F78-B97D-2A4C51A13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F85C-E8B1-4647-B5BA-F1734D958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F62547-2022-4BA5-AB00-F0586A86C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8052A9-49B6-4990-A437-C1E062C6BD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EC413B-AA43-4623-9E8F-AA5F6696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D448148-FD4A-4F05-917A-B8F46A7BD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0EF1884-2C30-4019-8542-5890586DF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0A3B6E-3430-4669-ADAE-4E996B99C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FE3968-32AB-44C9-9C61-B1F26DE7C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135149-F89D-40C1-8D90-62859A32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E126856-0270-4DDD-BD0A-68464000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37B939-F9B2-46D5-9606-D7586CA0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F42A6-9059-4AFF-908E-E56C8AFE1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C879BA-7108-4066-B1B4-8DE3F8058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883D97-E931-47E1-ACAD-9A060B76B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4EBD87-B120-404B-860B-5D5059EF0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D7CA69-94FB-4B00-B3FB-51FA1A6D16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48C945-49AC-4116-BAB8-B1C8A65D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81359E8-0999-4ACA-8D0E-7CFE697DB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32D2E5-0E31-4E0E-9A8A-C1CE5C702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A93ABA-C095-4C14-9069-E9A6D51F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B1D886-788B-41A7-8BA2-A9B44D09D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A71FE55-3F54-4F8A-8313-E3BFC702B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C3DA-CBBA-4D9F-9D3E-D27CCD89D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609480" y="27468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8DC4D88-2411-4D64-AAE9-047DF6E4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56C9B2-3463-4EDD-BAC4-FDB032761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CAE78-664F-41AA-99FF-17A446D52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CEB89A-0134-42FD-A1AF-1338BFA1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840120"/>
            <a:ext cx="822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CBB1FA-D1DF-48D2-BCC9-26A6162C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34100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840120"/>
            <a:ext cx="40158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5B7B604-257D-489D-9B70-95B9CAD5B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34100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840120"/>
            <a:ext cx="2649600" cy="228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819A6B-A407-4D24-AB22-94E712056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BA6204D-CBCB-464F-B213-C9D8B2219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F9CDCB-D45D-446A-9493-28D8D30BE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285469-3972-4EB0-96DD-6D23888B8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09.xml"/><Relationship Id="rId8" Type="http://schemas.openxmlformats.org/officeDocument/2006/relationships/slideLayout" Target="../slideLayouts/slideLayout110.xml"/><Relationship Id="rId9" Type="http://schemas.openxmlformats.org/officeDocument/2006/relationships/slideLayout" Target="../slideLayouts/slideLayout111.xml"/><Relationship Id="rId10" Type="http://schemas.openxmlformats.org/officeDocument/2006/relationships/slideLayout" Target="../slideLayouts/slideLayout112.xml"/><Relationship Id="rId11" Type="http://schemas.openxmlformats.org/officeDocument/2006/relationships/slideLayout" Target="../slideLayouts/slideLayout113.xml"/><Relationship Id="rId12" Type="http://schemas.openxmlformats.org/officeDocument/2006/relationships/slideLayout" Target="../slideLayouts/slideLayout114.xml"/><Relationship Id="rId13" Type="http://schemas.openxmlformats.org/officeDocument/2006/relationships/slideLayout" Target="../slideLayouts/slideLayout115.xml"/><Relationship Id="rId14" Type="http://schemas.openxmlformats.org/officeDocument/2006/relationships/slideLayout" Target="../slideLayouts/slideLayout116.xml"/><Relationship Id="rId15" Type="http://schemas.openxmlformats.org/officeDocument/2006/relationships/slideLayout" Target="../slideLayouts/slideLayout117.xml"/><Relationship Id="rId16" Type="http://schemas.openxmlformats.org/officeDocument/2006/relationships/slideLayout" Target="../slideLayouts/slideLayout118.xml"/><Relationship Id="rId17" Type="http://schemas.openxmlformats.org/officeDocument/2006/relationships/slideLayout" Target="../slideLayouts/slideLayout119.xml"/><Relationship Id="rId18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wmf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73.xml"/><Relationship Id="rId8" Type="http://schemas.openxmlformats.org/officeDocument/2006/relationships/slideLayout" Target="../slideLayouts/slideLayout74.xml"/><Relationship Id="rId9" Type="http://schemas.openxmlformats.org/officeDocument/2006/relationships/slideLayout" Target="../slideLayouts/slideLayout75.xml"/><Relationship Id="rId10" Type="http://schemas.openxmlformats.org/officeDocument/2006/relationships/slideLayout" Target="../slideLayouts/slideLayout76.xml"/><Relationship Id="rId11" Type="http://schemas.openxmlformats.org/officeDocument/2006/relationships/slideLayout" Target="../slideLayouts/slideLayout77.xml"/><Relationship Id="rId12" Type="http://schemas.openxmlformats.org/officeDocument/2006/relationships/slideLayout" Target="../slideLayouts/slideLayout78.xml"/><Relationship Id="rId13" Type="http://schemas.openxmlformats.org/officeDocument/2006/relationships/slideLayout" Target="../slideLayouts/slideLayout79.xml"/><Relationship Id="rId14" Type="http://schemas.openxmlformats.org/officeDocument/2006/relationships/slideLayout" Target="../slideLayouts/slideLayout80.xml"/><Relationship Id="rId15" Type="http://schemas.openxmlformats.org/officeDocument/2006/relationships/slideLayout" Target="../slideLayouts/slideLayout81.xml"/><Relationship Id="rId16" Type="http://schemas.openxmlformats.org/officeDocument/2006/relationships/slideLayout" Target="../slideLayouts/slideLayout82.xml"/><Relationship Id="rId17" Type="http://schemas.openxmlformats.org/officeDocument/2006/relationships/slideLayout" Target="../slideLayouts/slideLayout83.xml"/><Relationship Id="rId18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F70D7-B570-4342-9152-72832DEF8519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49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9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0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0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1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1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2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3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9AF9-5528-4D64-9A62-DE699CF7A363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7"/>
    <p:sldLayoutId id="2147483767" r:id="rId8"/>
    <p:sldLayoutId id="2147483768" r:id="rId9"/>
    <p:sldLayoutId id="2147483769" r:id="rId10"/>
    <p:sldLayoutId id="2147483770" r:id="rId11"/>
    <p:sldLayoutId id="2147483771" r:id="rId12"/>
    <p:sldLayoutId id="2147483772" r:id="rId13"/>
    <p:sldLayoutId id="2147483773" r:id="rId14"/>
    <p:sldLayoutId id="2147483774" r:id="rId15"/>
    <p:sldLayoutId id="2147483775" r:id="rId16"/>
    <p:sldLayoutId id="2147483776" r:id="rId17"/>
    <p:sldLayoutId id="2147483777" r:id="rId18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6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577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8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79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0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1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2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3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4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5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6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7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588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589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590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1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2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3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4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5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6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7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8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99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0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1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2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3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4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5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6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7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8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09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0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1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2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3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614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136E-A301-49EB-9149-5D2B6CFD222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F20B0-D38A-4333-B93B-8BD9F18E443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108000" y="566100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ECE8D-3DE1-41C2-A2D4-E20C0F20B27C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6764400" y="866880"/>
            <a:ext cx="2302920" cy="588960"/>
            <a:chOff x="6764400" y="866880"/>
            <a:chExt cx="2302920" cy="588960"/>
          </a:xfrm>
        </p:grpSpPr>
        <p:pic>
          <p:nvPicPr>
            <p:cNvPr id="89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6764400" y="866880"/>
              <a:ext cx="2284560" cy="363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10"/>
            <p:cNvSpPr/>
            <p:nvPr/>
          </p:nvSpPr>
          <p:spPr>
            <a:xfrm>
              <a:off x="7286040" y="1148760"/>
              <a:ext cx="1781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標楷體"/>
                </a:rPr>
                <a:t>健康  關懷  多元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pic>
        <p:nvPicPr>
          <p:cNvPr id="91" name="Picture 11" descr="MC900428235[1]"/>
          <p:cNvPicPr/>
          <p:nvPr/>
        </p:nvPicPr>
        <p:blipFill>
          <a:blip r:embed="rId4"/>
          <a:stretch/>
        </p:blipFill>
        <p:spPr>
          <a:xfrm flipH="1" rot="21472800">
            <a:off x="169560" y="533160"/>
            <a:ext cx="515880" cy="730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2" descr="MC900072902[1]"/>
          <p:cNvPicPr/>
          <p:nvPr/>
        </p:nvPicPr>
        <p:blipFill>
          <a:blip r:embed="rId5"/>
          <a:stretch/>
        </p:blipFill>
        <p:spPr>
          <a:xfrm>
            <a:off x="395280" y="1197000"/>
            <a:ext cx="6840720" cy="71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130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1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2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3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4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5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6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7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8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39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0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41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142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143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4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5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6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49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0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1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2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3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4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5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6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7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8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59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0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1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2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3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4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5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6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67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801F1-7EA9-47C0-A569-BD5063810221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5063E-23AD-46F9-92CA-28637C57FDD0}" type="slidenum">
              <a:rPr b="0" lang="en-US" sz="10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B2782-E725-4C77-8012-656B40D93E3C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9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0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0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1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2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1D56D-63AD-4510-A0C8-31C31395419F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7"/>
    <p:sldLayoutId id="2147483728" r:id="rId8"/>
    <p:sldLayoutId id="2147483729" r:id="rId9"/>
    <p:sldLayoutId id="2147483730" r:id="rId10"/>
    <p:sldLayoutId id="2147483731" r:id="rId11"/>
    <p:sldLayoutId id="2147483732" r:id="rId12"/>
    <p:sldLayoutId id="2147483733" r:id="rId13"/>
    <p:sldLayoutId id="2147483734" r:id="rId14"/>
    <p:sldLayoutId id="2147483735" r:id="rId15"/>
    <p:sldLayoutId id="2147483736" r:id="rId16"/>
    <p:sldLayoutId id="2147483737" r:id="rId17"/>
    <p:sldLayoutId id="2147483738" r:id="rId18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800000"/>
            </a:gs>
            <a:gs pos="100000">
              <a:srgbClr val="ff9900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71" name="Group 2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372" name="Freeform 3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3" name="Freeform 4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4" name="Freeform 5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5" name="Freeform 6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72e2e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6" name="Freeform 7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7" name="Freeform 8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8" name="Freeform 9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9" name="Freeform 10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0" name="Freeform 11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100000">
                  <a:srgbClr val="ff99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1" name="Freeform 12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2" name="Rectangle 13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3" name="Rectangle 14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384" name="Group 15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85" name="Freeform 16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6" name="Freeform 17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7" name="Freeform 18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8" name="Freeform 19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89" name="Freeform 20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0" name="Freeform 21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1" name="Freeform 22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2" name="Freeform 23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3" name="Freeform 24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4" name="Freeform 25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5" name="Freeform 26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6" name="Freeform 27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7" name="Freeform 28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8" name="Freeform 29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399" name="Freeform 30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0" name="Freeform 31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1" name="Freeform 32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2" name="Freeform 33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3" name="Freeform 34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4" name="Freeform 35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00000"/>
                  </a:gs>
                  <a:gs pos="100000">
                    <a:srgbClr val="ff9900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5" name="Freeform 36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6" name="Freeform 37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7" name="Freeform 38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8" name="Freeform 39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09" name="Freeform 40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</p:grpSp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0665-609D-492D-A644-3A1E97200AF2}" type="slidenum">
              <a:rPr b="0" lang="en-US" sz="1000" spc="-1" strike="noStrike">
                <a:solidFill>
                  <a:srgbClr val="ffffff"/>
                </a:solidFill>
                <a:latin typeface="Times New Roman"/>
                <a:ea typeface="新細明體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f5faf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2" descr="圖片3"/>
          <p:cNvPicPr/>
          <p:nvPr/>
        </p:nvPicPr>
        <p:blipFill>
          <a:blip r:embed="rId2"/>
          <a:srcRect l="3308" t="36246" r="2399" b="7499"/>
          <a:stretch/>
        </p:blipFill>
        <p:spPr>
          <a:xfrm>
            <a:off x="468360" y="4799160"/>
            <a:ext cx="8209080" cy="1944720"/>
          </a:xfrm>
          <a:prstGeom prst="rect">
            <a:avLst/>
          </a:prstGeom>
          <a:ln w="0">
            <a:noFill/>
          </a:ln>
        </p:spPr>
      </p:pic>
      <p:grpSp>
        <p:nvGrpSpPr>
          <p:cNvPr id="452" name="Group 8"/>
          <p:cNvGrpSpPr/>
          <p:nvPr/>
        </p:nvGrpSpPr>
        <p:grpSpPr>
          <a:xfrm>
            <a:off x="5869080" y="333360"/>
            <a:ext cx="2950920" cy="813600"/>
            <a:chOff x="5869080" y="333360"/>
            <a:chExt cx="2950920" cy="813600"/>
          </a:xfrm>
        </p:grpSpPr>
        <p:pic>
          <p:nvPicPr>
            <p:cNvPr id="453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5869080" y="333360"/>
              <a:ext cx="2927160" cy="63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4" name="Text Box 10"/>
            <p:cNvSpPr/>
            <p:nvPr/>
          </p:nvSpPr>
          <p:spPr>
            <a:xfrm>
              <a:off x="6537240" y="839880"/>
              <a:ext cx="2282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標楷體"/>
                </a:rPr>
                <a:t>健康  關懷  多元</a:t>
              </a:r>
              <a:endParaRPr b="1" lang="en-US" sz="14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99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19552-736C-411F-A381-1D22DDF0A1DE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476360" y="134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金山高中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3300"/>
                </a:solidFill>
                <a:latin typeface="標楷體"/>
              </a:rPr>
              <a:t>102</a:t>
            </a: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學年度第</a:t>
            </a:r>
            <a:r>
              <a:rPr b="1" lang="en-US" sz="6000" spc="-1" strike="noStrike">
                <a:solidFill>
                  <a:srgbClr val="cc3300"/>
                </a:solidFill>
                <a:latin typeface="標楷體"/>
              </a:rPr>
              <a:t>2</a:t>
            </a: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學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000" spc="-1" strike="noStrike">
                <a:solidFill>
                  <a:srgbClr val="cc3300"/>
                </a:solidFill>
                <a:latin typeface="標楷體"/>
              </a:rPr>
              <a:t>期末校務會議</a:t>
            </a:r>
            <a:r>
              <a:rPr b="1" lang="zh-TW" sz="6000" spc="-1" strike="noStrike">
                <a:solidFill>
                  <a:srgbClr val="0000ff"/>
                </a:solidFill>
                <a:latin typeface="標楷體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000000"/>
                </a:solidFill>
                <a:latin typeface="標楷體"/>
              </a:rPr>
              <a:t>輔導處報告</a:t>
            </a:r>
            <a:r>
              <a:rPr b="1" lang="zh-TW" sz="6000" spc="-1" strike="noStrike">
                <a:solidFill>
                  <a:srgbClr val="000000"/>
                </a:solidFill>
                <a:latin typeface="標楷體"/>
              </a:rPr>
              <a:t> </a:t>
            </a:r>
            <a:r>
              <a:rPr b="1" lang="en-US" sz="6000" spc="-1" strike="noStrike">
                <a:solidFill>
                  <a:srgbClr val="000000"/>
                </a:solidFill>
                <a:latin typeface="標楷體"/>
              </a:rPr>
              <a:t>                 </a:t>
            </a:r>
            <a:r>
              <a:rPr b="1" lang="en-US" sz="3200" spc="-1" strike="noStrike">
                <a:solidFill>
                  <a:srgbClr val="000000"/>
                </a:solidFill>
                <a:latin typeface="標楷體"/>
              </a:rPr>
              <a:t>103/6/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表填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生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表請導師於學期結束前完成相關記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配合無紙化政策及資料調閱，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表將逐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自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學年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改為線上填報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0948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家長日時間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高中部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期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下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4:00-17: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 2" charset="2"/>
              <a:buChar char="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國中部～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0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星期三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晚上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8:30-21:00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42560" y="2133360"/>
            <a:ext cx="70563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400" spc="-1" strike="noStrike">
                <a:solidFill>
                  <a:srgbClr val="0000ff"/>
                </a:solidFill>
                <a:latin typeface="Arial"/>
              </a:rPr>
              <a:t>謝謝大家的配合與協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  <a:ea typeface="新細明體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2232000" y="2130120"/>
            <a:ext cx="467856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8800" spc="-1" strike="noStrike">
                <a:solidFill>
                  <a:srgbClr val="cc3300"/>
                </a:solidFill>
                <a:latin typeface="Arial"/>
              </a:rPr>
              <a:t>暑假快樂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3200" spc="-1" strike="noStrike">
              <a:solidFill>
                <a:srgbClr val="000000"/>
              </a:solidFill>
              <a:latin typeface="Arial"/>
              <a:ea typeface="新細明體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7T08:37:48Z</dcterms:created>
  <dc:creator>Administrator</dc:creator>
  <dc:description/>
  <dc:language>en-US</dc:language>
  <cp:lastModifiedBy>User</cp:lastModifiedBy>
  <cp:lastPrinted>2013-01-16T04:51:42Z</cp:lastPrinted>
  <dcterms:modified xsi:type="dcterms:W3CDTF">2014-06-27T06:49:08Z</dcterms:modified>
  <cp:revision>140</cp:revision>
  <dc:subject/>
  <dc:title>96學年度第1學期期末教務會議</dc:title>
</cp:coreProperties>
</file>